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8B5-67D0-472C-B610-8F2EAD62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62B-C7B6-43DE-A931-4F9F6431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8C4-DCB5-479A-94DE-B3A7A983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E3F-8B8A-4BAD-B98C-FD6AEA64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DA8B-31D9-44D6-A3E3-C1947962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D5C6-085B-416E-AEF5-0B839E1A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4B95-9818-4E87-96EC-BDDD8E95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8830-9088-4537-A4B8-83C7607C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4319-F314-446B-9E6E-3C6C2B32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15D2-0994-4668-8FA9-0EEC44F8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44BD-FFF6-4494-A452-2E887D8B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057-D3F8-4E29-BDF0-08AA43C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B9D0-3F66-4DCB-A5DE-043DF112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45F6-0E88-4A6C-84DC-184D1318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DC7B-B06D-47A7-87E4-48D651D2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50EE-D1B3-4C49-AA13-F828CEFF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3E81-03D8-4638-B4DA-7F833CB8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6AC-9A7B-4C5A-AF9D-EC0134C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EAC-11DF-49E4-B13B-148D68DC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EAA-4C98-4AB7-972D-1061BFF7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F8E-57FB-4D5C-9561-E891A39F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BA2-CADE-4E83-BDC6-60B8535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103-D5D0-4B44-BD8C-E4E4CAC6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267-13CA-4020-B081-464539E5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A086-1A6D-43D1-BC58-DADAA4C79CB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A13E-E669-4B37-ACCE-F42EEAEB9C9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095480"/>
            <a:ext cx="8435880" cy="55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5) Strengthening capacity of national negotiator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Creation of competent grou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Regularly Trainings for negotia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Sustainability of the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7) Advocacy for mountain countries (International Mountai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D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Establishment of Alliance of mountain countries at COP 1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11) Risk and Natural Hazards/disaster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Natural Hazards – nowa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Strengthening of Hydromet potent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Awareness raising in Natural Disasters and C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Reconstruction of Technical Infrastru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18440" cy="72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What adaptation measures are needed to be taken?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toral approac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ergency Situation (CoE, Mo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ater manag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es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How they can be reflected in International process?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velopment of NAP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bmission  of National Communication to the Secretari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bmission of NAPA to co-fun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55:58Z</dcterms:created>
  <dc:creator>Admin</dc:creator>
  <dc:description/>
  <dc:language>en-US</dc:language>
  <cp:lastModifiedBy>Camp</cp:lastModifiedBy>
  <dcterms:modified xsi:type="dcterms:W3CDTF">2011-11-10T11:46:02Z</dcterms:modified>
  <cp:revision>22</cp:revision>
  <dc:subject/>
  <dc:title>Слайд 1</dc:title>
</cp:coreProperties>
</file>